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6C3-72B4-4227-A3EC-0BA54251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9C3-887C-49D4-BD87-001410B4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62A-9CB9-4F68-B345-B1CD9F01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CC6-9CA8-4834-8E00-062D1F4A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F1A-29DC-4E5C-B89A-5BEB4C25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553-2BC4-4EC0-A18A-CA57949C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7BB-B3DA-4410-B2BC-E39FC660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4BB-2D55-4839-B5B3-ADB2E9BC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F1D-BEA3-4843-BCE5-205E8715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80E-FC6B-42DA-ADAD-82C417BE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4E1-2754-4BBC-B19D-AFB0F25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44C-8F2A-4192-AFD9-5A7FA4C4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367B-4B4F-4006-A21B-8A59A8AFD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Bookman Old Style"/>
              </a:rPr>
              <a:t>Правописание гласных в падежных окончаниях имён существительных в единственном числ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0080" cy="136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52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0000" y="259560"/>
            <a:ext cx="640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Склонение имён существ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24000" y="2133720"/>
          <a:ext cx="8424720" cy="4319280"/>
        </p:xfrm>
        <a:graphic>
          <a:graphicData uri="http://schemas.openxmlformats.org/drawingml/2006/table">
            <a:tbl>
              <a:tblPr/>
              <a:tblGrid>
                <a:gridCol w="2722320"/>
                <a:gridCol w="2722680"/>
                <a:gridCol w="2979720"/>
              </a:tblGrid>
              <a:tr h="97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 им. п. ед. ч. оканчиваетс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клонен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419640" y="3213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ж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429264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ж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57531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321300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-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- 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221000"/>
            <a:ext cx="26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оглас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-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-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537372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огласный с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ко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403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132480"/>
            <a:ext cx="73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равни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правописание ударных и безударных падежных окончаний имён существительных 1-го скло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2349360"/>
          <a:ext cx="7920000" cy="417528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99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4718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247760" cy="172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43480" y="2421000"/>
            <a:ext cx="21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о с ударным окончанием 1-го скло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2349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о с безударным окончанием 1-го скло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645000"/>
            <a:ext cx="21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600440"/>
            <a:ext cx="21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46860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350028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с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4720" y="4549680"/>
            <a:ext cx="132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82360" y="44766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с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8000" y="5516640"/>
            <a:ext cx="20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3440" y="5589720"/>
            <a:ext cx="1389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'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29800" y="558972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с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63640" y="333360"/>
            <a:ext cx="712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Сравни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правописание ударных и безударных падежных окончаний имён существительных 2-го скло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247760" cy="17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12720" y="2492280"/>
          <a:ext cx="7920000" cy="392904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981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348000" y="25844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о с ударным окончанием 2-го скло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249228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о с безударным окончанием 2-го скло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2720" y="3716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35080" y="368460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л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4880" y="36450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4720" y="472428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5589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7240" y="465300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4160" y="566100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5800" y="4508640"/>
            <a:ext cx="15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р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6160" y="558972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р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19280" y="26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Сравни правописание ударных и безударных падежных окончаний имён существительных 3-го скло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247760" cy="17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612720" y="2349360"/>
          <a:ext cx="7920000" cy="415152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1051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3492360" y="2349360"/>
            <a:ext cx="22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о с ударным окончанием 3-го скло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234936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о с безударным окончанием 3-го скло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386064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4720" y="479736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1080" y="580536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7240" y="37162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п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4724280"/>
            <a:ext cx="12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п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57340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п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28160" y="3684600"/>
            <a:ext cx="12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72428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5600" y="5661000"/>
            <a:ext cx="12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87280" y="54936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Способ применения прав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80320" y="177336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. Задаём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82840" y="2492280"/>
            <a:ext cx="52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. Это 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82480" y="321300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. Определяем начальную форму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9600" y="3933720"/>
            <a:ext cx="47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. Определяем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6280" y="4653000"/>
            <a:ext cx="71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. Проверяем словом (земля или лиса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тол или окно, степ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580536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6. В окончании пише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114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6920" y="476280"/>
            <a:ext cx="777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писание гласных в падежных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ончаниях имён существительных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989000"/>
          <a:ext cx="7991280" cy="4516560"/>
        </p:xfrm>
        <a:graphic>
          <a:graphicData uri="http://schemas.openxmlformats.org/drawingml/2006/table">
            <a:tbl>
              <a:tblPr/>
              <a:tblGrid>
                <a:gridCol w="1998720"/>
                <a:gridCol w="1996920"/>
                <a:gridCol w="1998720"/>
                <a:gridCol w="1996920"/>
              </a:tblGrid>
              <a:tr h="93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оверяй слов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627280" y="409716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414972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149720"/>
            <a:ext cx="4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508464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587700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587700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414972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5084640"/>
            <a:ext cx="431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6000" y="587700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9280" y="2492280"/>
            <a:ext cx="10055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нездо иволг.. прячется среди буйной лет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ени. Оно похоже на гамак и крепко привяз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развилк.. ветк.. .Легко узнать гнездо сорок.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сивный шар висит в густом колючем кустарник.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етк.. ели, в зарослях ивняка. На опушк.. л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гнездиться пен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птичьих гнёзд в природ.. треб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ательност.., осторожност.. и любви к созд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ям этих искусных соору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оработаем с тек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62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Прочитай тек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981000"/>
            <a:ext cx="53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ридумай название тек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8560" y="1341360"/>
            <a:ext cx="30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Определи тип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0280" y="1628640"/>
            <a:ext cx="72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Объясни правописание безударных окончаний в имен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5:54:51Z</dcterms:created>
  <dc:creator>Ana</dc:creator>
  <dc:description/>
  <dc:language>en-US</dc:language>
  <cp:lastModifiedBy>Ana</cp:lastModifiedBy>
  <dcterms:modified xsi:type="dcterms:W3CDTF">2007-03-01T14:30:47Z</dcterms:modified>
  <cp:revision>8</cp:revision>
  <dc:subject/>
  <dc:title>Слайд 1</dc:title>
</cp:coreProperties>
</file>